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F2E-DB3A-4DD7-9938-5828936B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70C-CF6C-447D-B9AD-E7580D45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093CF-3A7A-4094-B541-370EDC89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E88FF-E388-46EC-AE5C-080B5AB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30884-EFCB-496E-AB49-BF30215B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64140-379D-48AA-8A19-FC5FCA2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22CF8-8FE9-4939-A07D-E403371A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7746A-D950-448F-A9FC-298CEB66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40704-A24D-45E3-A557-EF29CF0C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54B05-C1BC-4CD4-99EB-7410AFFB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FEBB2-3FCC-40E2-BC96-9C50468D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5B846-A105-4639-964F-15115F7B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B04-9125-4C57-80DD-E0705E33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15DED-EEF0-4774-A88F-93BC94D1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6B03C-28CF-4E41-B402-FDAEA9A0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893A9-0193-47E4-85FB-0AED5776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BF615-D4E4-4FA5-ACCE-5FE3D305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A9A84-0309-492F-B7FC-D1D53CB1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ABA60-0B9D-40A1-9C23-A7199796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D8833-856D-4871-B1DC-BDBAA22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74464-EA02-4C7B-9455-F9604C9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12918-EC5E-4633-94D8-97F0935F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6EA78-F873-4E61-A99F-A0828870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F7E-2E1B-4C83-9EFC-06B6F87F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EB6E5-3D54-4805-981B-943DE3A4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E0E87-BB47-4B1D-8325-C14F45ED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3EF1F-A37B-46D1-B346-3EAB8291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B789D-33CF-46DD-B5C4-C17995D6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D6EC6-A6AC-4EA2-BFA3-B337241F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910FC-F63C-46E1-BE26-5289606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58EA6-152A-4DF7-96E9-D23A839C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5CF46-2FC5-45AB-9A91-90CD30F2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BF512-96AB-474C-ACAB-C7DF0D24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48F75-89B3-4ABF-B048-A18267F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1475-0ED4-4D2E-AFCC-DF046E49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2E0E7-3CF1-4BCF-A64B-1E72063A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3F37F-37E6-4D54-8B26-F2DA22E5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2F625-4511-4FC4-A74D-CD02D530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8329A-3F57-4CFA-86E0-F66878FF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EF8C0-F8A6-4309-9A56-60FE8B21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75813-235A-45E2-86F2-5C5FCA0E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F2CBC-6332-4127-818B-0F27CAFB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F9691-791A-4024-85F9-6ADDA2BD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A141C-15E0-4CD9-8497-81A0A619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83432-D251-4074-B34E-0D9E041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C27D-0F16-4A0C-BFAE-FB8CBADC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CD429-8452-4C25-B7FA-86E42B3B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9CD5C-BBE1-4AE2-AEF6-94436C50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5E3C1-84DE-4873-94C8-C1F486F1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E108B-9195-4563-A330-C281A92F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6CF8A-03B7-42CE-A0CB-3D7BF32E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B8E30-CBC5-4F76-9B3B-BC2B8D21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F23C9-BB52-492E-B893-2BCE5DEE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A22D5-B1FE-4E87-91F8-C88D0557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EA693-DDE4-40B8-9D28-8D823D2A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FA999-5F0E-455C-9BF9-D4901DFB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20B6-B07F-41BC-8308-40913DDF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F0231-AF79-4231-A3C4-77E36C24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AE400-C35E-4E48-874A-8726C029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467C9-3AEB-4053-8C8B-94DDB16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D5920-D838-49B6-8F5C-D7C726F3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EBAFF-8EB6-4743-9C37-34A9819B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089F0-B5A4-459F-A5BE-CFBFC9A3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BDEB1-C81B-48AC-9F4F-477D458E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31DAC-D743-4625-9100-E04A06BE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D34F8-95F8-4ADD-9342-7A199105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63169-B468-422E-833C-03DECE8F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049F-4DD5-4C27-9F81-6E308EBE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CDBB7-1AB7-4D8D-9AD6-869842C4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CCCD6-BB32-4291-BABF-91D0E7B5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F1EEE-3D6D-4C81-B123-A03CA7E3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389A4-ED43-44CF-A588-20A2CA8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1D4AC-D5F9-413F-A5EC-69885F5C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24603-70C0-4874-B671-5CC6AE4D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3C7CF-3756-45C9-A23D-5C0B905C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47FC6-BD17-49D7-AF0E-A845AFCA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1B2F5-38C8-4D0C-8B72-8CE47F86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CCE32-3B7F-44C0-AE3C-34652D60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6795-F906-4C1A-9F3A-EAD29D41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90B53-9C75-456E-A167-F92283CB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7D2E6-2EC9-426F-97BA-8748DC0A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ED8F5-96D1-4AA2-B8B0-13B5A7A9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62CED-BF02-4B68-9E48-3FD1BFAE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FE395-C613-45C4-8C3B-DE2C3DEF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BD7A0-B4C4-4D20-AA2A-77D2C345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456DB-F14E-47F8-BC12-0AC4882F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1E6D9-C880-46A3-900F-5F75E6D1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7FF2C-0D98-4D54-ADB5-962C6311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F9846-1DFF-45E8-B5B7-D444BBD0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8CB7-93D8-4945-A463-22ADAC68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5203E-645B-48F0-A66B-6A368809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CC7C5-9585-413E-8689-D6C365C9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1FAC7-AAF0-49A2-B80F-7FF96B70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FC496-DC4E-4B2B-BAE1-22E2DDB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8A0E3-0D29-4A17-BC53-28151D74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9F38A-4099-43F6-892B-A9BF8755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6B57A-A9E6-4D5B-A76E-0FE7C9AB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C4135-CB89-455F-BF44-786FFBC3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79CE0-9C1A-434F-B1B5-E06864D0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1C66A-456D-40BC-85B1-4A74166B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F379-6CAB-4A1E-AF23-BEDFE86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B6E0A-1BB6-4EE6-B059-A7901957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B3467-BFAF-4264-9DF1-73F57829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93B52-1C51-4563-B251-9EE32A94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831-F780-4DC8-8CDD-535C6DFD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30EC-0FF5-4A6E-9DA7-F764B97E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9488-E7DB-4143-8495-EADAFC26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67EB-E72A-431D-AB73-B12A8D76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CDA5-A18B-40E1-AF88-59B7F030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CFE6-469B-4CFE-8D36-60ED991D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1437-A11E-4FB7-81BF-FF6981A1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86D71-3136-4B16-AAF8-35EF261E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1EAC-E2A1-42AC-97F3-2B614F23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AAD0-5925-41BF-A855-6F6BCBF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D7E9-C013-4FF9-8730-0C107F3A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A08-B910-495C-8A98-5243C8D3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6CF7-6449-48C5-8343-8A9F07BB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4CAA-849D-478C-AD33-A6A1D78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880D-3B94-4D54-8885-6439DBB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53E6-0056-4138-8AB5-28BA4D2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FB37-AB0F-43B1-8F97-688695D8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C363B-77ED-4D94-AB1A-C17F4948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662A-F984-4CE7-AC11-DD11154D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44F1-4E96-4CDA-87C8-E9F08DC0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DBAB-57B6-46D7-9CED-5FA63D10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D70C-EDE9-4818-8CB3-2FA51FB5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B4C-C8E6-4BBB-AD16-93C62F9F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7AD5B-83C3-402F-85A7-7A38639C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FB3AA-CA3B-4C1D-8458-C4F05646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3B28-4245-447A-912A-0BA843F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D6C8-3A4E-40C1-93DF-F28A68A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2AC1-3DA5-41AB-B060-404085E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D23B-6201-48A3-8E37-ECFAAC9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96EF-0F2C-41A6-A78C-667AED30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1B7D-8968-45AF-8626-51F19F89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5ADF-FF40-498D-BBA0-D0DECC52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B16FA-CD9B-4B97-8701-0E155C3D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839-E2FA-4EC6-8CAA-07FE1DED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6B66-C423-40A0-90A7-182A81E6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01AA6-C56A-4BC2-8006-4C65A017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6E25D-3180-403A-8985-EB2580D4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F09C-6FBE-49DE-A048-1E241CD2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75F2-AEE7-4407-983F-8FBC7E83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B9F6-B578-4798-A7DD-FC0C928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8B33-F9FA-4210-A376-EA5198B8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474E-649E-4384-AAE1-63D008C3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603A6-6322-4458-9325-059F4CB4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75574-0D7E-452F-A94F-880731BE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FF0-D2B9-4442-B411-E5255243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FB6D-D643-458F-8A5C-99246797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BD9EF-93CC-4F55-ACD9-DB47CCBE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1D6CF-E704-41F8-89B9-C332BB04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4A409-5B9A-4B28-AB5C-46F1233D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71AE8-FC04-48C8-9A4C-EE0639FF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593FA-D435-4C5A-831A-F89A92C0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4E1B8-191F-4F37-800E-792DA56E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4CFB0-25A2-40BA-A0D3-57B040DF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BB580-6E56-4862-ABB5-1F9F92D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07DE-07A7-4E3C-9E82-4A6E33E8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BF5-AA49-4AEA-B858-BAD38195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93863-11E3-45F7-8F1F-0DDB50F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38DC8-40A6-45F4-B7BF-4F167994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3619F-460E-45E2-AE2D-A752DB3D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FC029-63EC-4EE1-8612-AB91FA51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9E24-35CC-4B00-8434-0F9C8566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0E3E-6EB4-4574-92AE-CC55A9A6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C681-A85F-4ECE-931C-C31BF989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68C2-3297-4CBE-B182-7FAD5610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2C7E-7187-4C5E-A3BC-21822168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708B-10A9-4F53-9F72-E31B4D2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FE5-C67E-44FE-8A41-F000B5A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84F21-0216-45F1-9D9D-9E6306C8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FF813-E93A-4429-BF58-D90D9355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A588B-51E0-4205-BDAF-B22BC760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10789-C903-48C7-9A65-13168EB2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B3044-44A3-43CE-AE14-739029B4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A4800-2855-48B4-BA82-7967B561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DEFEC-55A6-424F-B703-73B11320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306EC-5150-41DB-8046-AC6D24B6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C1542-84E5-4DED-BA08-ED01129B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0D8A1-9EC2-444C-A962-E891B2A8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FA6-D72A-4A80-90DB-1CD1C42F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3B32E-57DA-4E14-B5B2-BD620ABA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6559A-099F-4170-8C75-0BAC163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FA36C-4DB0-4953-8E6F-CEF0DB8A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0BA03-5D46-4362-A9DC-6F8D1CFE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1FCCD-17BB-487F-80FB-F81058D4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F3572-D465-4418-846B-DA4FE5DE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7FC81-3A0D-47FD-8209-64B28C20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FA204-9CB5-4384-A483-081BFE3D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BC33E-5743-41B1-AB3E-86E97BF4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D2B12-9F1F-4925-92F2-C917BA0D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6CEF-831E-49E9-BCC5-8479F388267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6F15-0509-48DD-B495-6DF6F7FF9D8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825-0D3E-4D81-B81F-42FC0BA68FF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458E-7596-46F2-955B-91F1233DC12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7D03-2D48-49F0-9EB6-2438067FFBE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9DED-47C0-4904-B788-14CE6FC0948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46CD-5283-4100-B04F-AC3FABFF2298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AD4D-F37F-4F90-AC53-886E85EF054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D3D1-DC55-4A7F-813B-A415278955C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DF88-873F-4400-BD45-B06F4FE3DFE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812E-2A33-45CE-AF52-BD83DBF8BFE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11BD-AF60-43EF-B28F-9D72E957F81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A3DD-3249-42BD-B77B-EB2E4B92C61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0A09-A1C3-4BEE-9AC4-EFF8F377771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6969-CC18-4666-8E41-1A60E049F3D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C5A4-3971-4FB3-A939-0D0100E43FB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3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446A-16B3-4F7F-B3A8-49220BE534C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7615-96ED-41EF-8AF3-571ACA7ED1C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D4C6-15BC-488D-B621-1EAB8E34596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674A-9384-4556-A7F3-D296637E8D0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13DC-79B4-4885-BA34-619C1CB8754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474-4FE4-4041-8177-AC0089590D89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D6C7-C14B-4CBF-851E-EFBAA7F33D77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CAC6-80F6-4520-A66E-F7F72CE94B6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94B6-0F06-49E4-88FC-04704787EAA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87B7-F1C9-4CFC-B91B-18C555EC1FE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E979-F844-420D-AE67-A4344968991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6EE0-3094-460A-97AC-7F62E3771501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C5B3-B288-4ADC-AF3B-40E13CF12DF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6074-C6BB-4C25-865C-779266B78AB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CC23-47E9-40FF-BC2A-5B283FA68220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7258-F998-4C9E-9FB3-18E4FA04C45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1" descr=""/>
          <p:cNvPicPr/>
          <p:nvPr/>
        </p:nvPicPr>
        <p:blipFill>
          <a:blip r:embed="rId2"/>
          <a:stretch/>
        </p:blipFill>
        <p:spPr>
          <a:xfrm>
            <a:off x="652320" y="1530360"/>
            <a:ext cx="7839360" cy="1646280"/>
          </a:xfrm>
          <a:prstGeom prst="rect">
            <a:avLst/>
          </a:prstGeom>
          <a:ln w="0">
            <a:noFill/>
          </a:ln>
        </p:spPr>
      </p:pic>
      <p:pic>
        <p:nvPicPr>
          <p:cNvPr id="683" name="Rectangle 2" descr=""/>
          <p:cNvPicPr/>
          <p:nvPr/>
        </p:nvPicPr>
        <p:blipFill>
          <a:blip r:embed="rId3"/>
          <a:stretch/>
        </p:blipFill>
        <p:spPr>
          <a:xfrm>
            <a:off x="652320" y="3213000"/>
            <a:ext cx="7839360" cy="871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Spac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176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-mail Invitation or Click “Join” butt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Join if you haven’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aborative Web Pag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Add material to any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Edit material already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Delete material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Create a new page with new materia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teri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ext cont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yperlink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8260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WebPages, Podcasts, Video, Audio, etc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 Pages to Updat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ccounting Syste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ta Model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Deliverabl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ad SAD Wiki chapter 9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gn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course agre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ue January 18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m Gro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oup Assignmen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9200" indent="-349200">
              <a:lnSpc>
                <a:spcPct val="90000"/>
              </a:lnSpc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Teams of at least 5, no more then 6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ject requirement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rief Description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ailed Narrative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 &amp; A Tab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(context, level-0, and level-1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Implemented via Wiki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cess will come from Process Classification Framework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31E6-D3DA-410B-8E3F-79FBF1472328}" type="slidenum">
              <a:rPr b="0" lang="en-US" sz="11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hat to Expec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 fontScale="99000"/>
          </a:bodyPr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arning the concepts of A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(old Chinese proverb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pplying the concepts (Group Cas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Aristotle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648320" y="1981080"/>
            <a:ext cx="3848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ings/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Syllabus Highligh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r. Steven Horni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hornik@bus.ucf.ed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http://acg6415.wikispaces.com/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ffice Hours: Tuesday &amp; Thursday 3:00 – 4:0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; and by appoint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ffice: BA1 43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 Meebo Widget in Wikispa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ext Boo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Accountants Guide to XBRL 5th  ed., by Clinton E Whit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ailable only at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orbel"/>
              </a:rPr>
              <a:t>http:www.skipwhite.co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0099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ystems Analysis and Design Wik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apter 2 and 9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t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Gliff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count – Web Based Modeling t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e Componen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1 (Data Models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2 (XBRL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siness Process Model (Group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 Assignment (6?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articipation (Wiki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2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tal Points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3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ing Sca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648320" y="2743200"/>
            <a:ext cx="3848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Particip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cture’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Ask Questions, New Technolog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W / Ca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Prepared to discu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k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Quality of pos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Exam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choi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tch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hort-answ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blem solving / model build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eneral Course Objectiv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ain Understanding of XBR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BL and XBRL-G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0:15:00Z</dcterms:created>
  <dc:creator>shornik</dc:creator>
  <dc:description/>
  <cp:keywords/>
  <dc:language>en-US</dc:language>
  <cp:lastModifiedBy>Steven Hornik</cp:lastModifiedBy>
  <dcterms:modified xsi:type="dcterms:W3CDTF">2011-01-10T22:15:48Z</dcterms:modified>
  <cp:revision>6</cp:revision>
  <dc:subject/>
  <dc:title>ACG 5405 Intro</dc:title>
</cp:coreProperties>
</file>